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796-DA72-4E80-BF4B-69F9FF57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693-20A3-4558-8EA1-BBA6E0A9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9E3-1372-410F-9334-C4DD5D21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ED1-6051-4616-A8BA-0845771B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6BD-767E-49C2-A571-4DBDBD07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503-0AB3-4ABC-B645-89F448B5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5D9-C162-4D10-A3B7-F99816D9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CED-A01E-46F1-93C4-E4A926CC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1C2-7702-4EBC-AA2B-E2B80759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1B9-E87F-48ED-B32C-C77B6278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941-C795-44B8-ACC2-AF36DB91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3DA-6DEF-46C1-897B-8CD1C7E6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3D4-4977-4F77-B776-F0801D3AF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9580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09480"/>
            <a:ext cx="3200400" cy="9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غيثَ المراح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أسبِغ عليه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خيرَ راحِ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بحرَ الج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514600" cy="70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فَلْيَستنير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ن نورِ وجهِ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ليستريح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ع مَن أرضَ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0:59Z</dcterms:created>
  <dc:creator>HANI SAFI</dc:creator>
  <dc:description/>
  <dc:language>en-US</dc:language>
  <cp:lastModifiedBy>HANI SAFI</cp:lastModifiedBy>
  <dcterms:modified xsi:type="dcterms:W3CDTF">2003-05-19T11:42:17Z</dcterms:modified>
  <cp:revision>1</cp:revision>
  <dc:subject/>
  <dc:title>Slide 1</dc:title>
</cp:coreProperties>
</file>